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jpeg" ContentType="image/jpeg"/>
  <Override PartName="/ppt/media/chimes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65D5-1B42-4365-B4D4-F54D6908D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e back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A1A70-CD1D-40A9-B19A-5632BA73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306C-E94B-4830-8E03-9DA3789C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EA1A7-E62A-4CFE-977F-171B047E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EA8B5-B1E0-4B47-9FBB-90E1D5CC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7A2B-909A-4FD5-8500-2BF2462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590D3-06BD-429F-A82C-D044E0C7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AF66-B2FB-48FC-BDDB-BD67F01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EE953-9533-4A3B-B83C-83627444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E045-CCF8-466B-9E41-14B62B2C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87577-4B04-4149-9C19-8AF17FBB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295F0-3800-47CC-88BC-8D22A7CA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15C34-C337-46A7-8B55-2DF907FC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AECC-68A2-41D9-914E-E60FA7D8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425F2-1BCD-431C-AE8A-3B45E386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22463-2A4F-46DB-A3F1-3E7E3F6A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52920-127F-49C7-86C7-BE1A88D6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803A2-6FCD-40BB-A9A5-8F7E4FEB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C2D59-1A7D-4765-AC75-8150A7B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59E3E-3CED-48E3-993D-283D9F1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9B4C9-26AF-450A-829C-1D90B82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F4580-98AD-4B15-A3BE-AA842E3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D0969-4F83-4373-867D-65DC486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672BC-304A-4955-83F8-F1B24540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E8A4-45ED-4CF9-8263-2AE8CE4B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1537B-B22B-4380-AEF3-FC50D1BE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6E4BD-0237-4E9A-9C6C-69D25F7A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0E4C9-4EC3-4125-9C92-D3BF90B3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7F4B-E3B2-43E3-9334-4E58C2A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B32DC-71CC-48D2-BF50-FC8E376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A43C8-E004-4312-82AA-0574B31D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996C0-F884-4DAB-B615-4066B10F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1A745-E1B5-4ED4-81E3-C665E44D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503FE-F4B4-4094-A684-64430B6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A67D4-0E81-4C30-987C-3BA2BAFA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2E03-E220-424A-9BEE-E3F502E7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43E5A-7712-4034-9BDD-B79EDB2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4D940-8FA1-4AA5-AA2F-65241EAA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83F4C-475B-4BF5-99D9-7254516B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774CCB-6156-4F0F-9005-8D2B5BEA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4A45CB-33E6-429F-B519-3C722CB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D94F57-91C8-4FB5-805E-9DB1A310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762E25-94AE-4B79-AE8D-123C7CAE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F7E147-DE38-4C0A-B602-AAD31655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714597-9B50-4FFA-84A2-FE3ECD6E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A7C002-1ED6-481E-8DCA-36DBC16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712-751E-48AF-8D35-57AAF98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0229FD-EC31-4B1D-98E0-82BE7D0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1C3454-5384-4407-8959-726B3E8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8FC542-1B21-4F9D-BE82-392B7039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7571D2-9AF3-46F7-8F83-E882D1F0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CA2EB6-B994-465C-BC66-B900358C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CFB8-87ED-41F3-8087-04F3F896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E423-A980-4567-9669-1342793F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7C98-8AF9-4919-A193-C624DA7F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D0A-6FDF-4D5F-BC30-78008978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AE04-BB5C-429F-8FE9-BF1221B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BF4F-6C87-4914-99F3-C26B719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1065-2853-4AA7-A2CD-E7782D3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65AF-5545-411B-B8EC-D3B5FC8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4775-433E-4723-9A56-3AFA2B4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27B-92CC-44D6-A5F4-ECDE9B28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669E-3152-4740-9B32-3321883B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6533-4A58-44B5-9D3F-E6DD68F7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FFAF-42AB-4230-989B-05EDF4B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C27E-3C64-4B0B-926A-3ADE2A22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45A3-1F76-4F60-A880-06E77303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1A18-C76A-4492-A719-9AF261C4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7D84-AAF6-4BAA-9EBF-5C5198B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C84F-F2FF-4E6B-B976-00124B35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FD9B-C76B-41D6-8E29-E2DF0FD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3DA6-72AF-4E87-B319-16212DAF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B303-0AA7-4C47-92AA-028C5DB5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7490-CCC1-4481-9A2E-2FC2955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B905-FE3E-4D0C-8DB3-9870AC1A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DCDA-24EE-45B9-859F-C3FE7578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CF9B-3AE3-4F7A-B32F-1442523E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B175-AAD7-4CCF-8517-90E769C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1A00-109A-4F5B-93BE-82646BD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7A32-D040-444A-AB0B-90E7EA9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F41F-1CA3-4B11-B0E3-29A9B9B5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97C0-BC4D-42ED-8B98-1B6E0175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5126-73AE-4616-A0C7-14DD6E19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74A5-9916-4737-A66E-E7287C1D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9B9E-AA78-4F4D-B7B1-34E5FE0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108E-5BAD-4018-813F-BF97AD5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5FB1-1FF5-4925-B6CE-18F114B3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FE536-DF5C-41D6-8DDB-F2CC90B2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CB43-DA28-4A62-BEBD-198F9FA5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41B1-4FE0-45B6-A4A6-89D52D4A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E682-ACDD-40D5-B7A9-7220EE5D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7049-9F84-49F4-8B24-EDA2FB57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79BD-7431-4B80-B013-A7A91FA3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5CD9-4F75-410F-B6BE-01B0FA1E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D045D-F6F8-4AE4-B07F-B506F013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2977E-6D4D-4F0A-B7D6-63B0982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F5C86-60C2-494F-9119-B8FF5561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E2D3A-E875-45F3-B375-554E813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BB4B-88B6-44D9-8D4D-C5B823A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43D6-9E90-4490-A668-05736491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A5B4-5109-4715-A03E-A693E4F9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3C65-A738-4FC0-84A2-919B3A2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71333-2C9F-4D35-8AD2-4E549D06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88F5-29F7-4FAF-B38C-EF99BA60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A9355-4135-45F9-B914-5689814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B323-1929-4E73-9E60-F07277E7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AF68-B293-40EF-BF66-AA395B6B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C4B0-6680-469A-89B0-F355E9F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AA083-EF62-4DE7-9797-1DD89194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6BA6-2879-40A8-8898-CBAEFDE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A5D6-80C7-49C4-941D-D73A2CC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217C-3343-412F-9F18-9EDFDCF6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91D8-2213-4600-B838-9B02C50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BD6C-4D83-49E3-8F69-73C44BF2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57EA9-9E4A-48C8-85FE-A2B45DBC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5E13-EFE5-47A3-84D4-528D5B28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CB861-DE4D-4F8A-B707-B6E02556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89A76-45D6-4442-BAD7-723F5AF7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9EBA-CDB7-4CDB-B8CE-D1A98210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14924-2ABC-43F6-8428-DF41658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4F274-F6B8-45DE-A41F-8B686453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6817E-3E48-4742-937D-AC7FE8E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FF8B9-02E8-42C2-BA83-EDDD8F8D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99D3-F58C-4648-BCE8-67624447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8C825-0A98-4797-A946-E7E78EC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9C19-FB61-4A27-A327-EC7560CD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51A40-E575-40A0-A91B-AF2C3C0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8845-295F-45B0-B302-E97FB673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1CA2-CA79-45E4-A9CD-EF8BA325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7C28E-D92D-4747-8E77-548E7CC8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7937-E6E0-459A-8EDE-7C30974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C6766-9FBE-4FFA-A660-3086ECD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C46C6-3276-4FB0-8FE8-30374664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A05D2-E936-46FA-B96E-A2B1D46A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0935-5317-4B96-9950-852EF73C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5B0F-4D93-45C1-9E7C-F03AF4F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8C9C-1F19-4769-A41A-0A69C440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760A9-0744-4A01-B451-3521B77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1A0E-E5AB-4EB5-B974-3F52E09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967A0-00E9-4E1B-B90D-7F96F592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72E1-BDCF-41C9-91C1-5689DFE6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33C4B-919A-44BF-B3C5-0302A46F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CC7B9-F664-49BB-924D-49DC788D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C7AE4-0FF2-40C2-B8BC-BCCD62F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08214-3129-46F7-AD50-5A9B4EB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C06A-EA6B-4918-9FCD-6EA8957154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1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FEED-880B-4EEE-AFB5-58B947B235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7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8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8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A3B5-3A48-4151-BA95-087D36E124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3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3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4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4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2994-243A-4A8E-9C8E-92BE89FB08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27AE-4DC4-4016-9C98-C82874A645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06BC-0137-4936-9365-7930D55A24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7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3C6F-E0B4-42BE-A5EE-005D4CB60F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E054-85C8-4ED3-97A5-19AA87B8F3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ED8-763B-46D3-9AA5-7D3844083E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27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6CCE-45C9-473D-8BC7-F1871A1FA78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27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2320-74DB-41E4-9AD9-DE71DA2318B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6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71A2-1BBB-48BF-94FC-B6248AFD8E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cc"/>
                </a:solidFill>
                <a:uFillTx/>
                <a:latin typeface="Tempus Sans ITC"/>
              </a:rPr>
              <a:t>Masks</a:t>
            </a:r>
            <a:r>
              <a:rPr b="0" lang="en-US" sz="4800" spc="-1" strike="noStrike">
                <a:solidFill>
                  <a:srgbClr val="ffffcc"/>
                </a:solidFill>
                <a:latin typeface="Tempus Sans ITC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V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a raven mask that the kawaka’s wore at the special gather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pe and p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4495680" y="2166840"/>
            <a:ext cx="419112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UMAN MASK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kawaka human mask that was w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0625 -0.00971 C 0.01319 -0.02312 0.02031 -0.03769 0.02726 -0.05642 C 0.04618 -0.1096 0.05122 -0.16162 0.03733 -0.16971 C 0.02326 -0.17896 -0.00382 -0.14174 -0.02274 -0.08833 C -0.03281 -0.06035 -0.03872 -0.03376 -0.0408 -0.01364 C -0.04375 0.00231 -0.04479 0.01826 -0.04479 0.03699 C -0.04479 0.09688 -0.03177 0.14636 -0.01667 0.14636 C -0.00174 0.14636 0.01128 0.09688 0.01128 0.03699 C 0.01128 0.00902 0.00833 -0.01781 0.0033 -0.0363 C 0.00122 -0.05249 -0.00382 -0.07006 -0.00972 -0.08694 C -0.02969 -0.14174 -0.05677 -0.17896 -0.07083 -0.16971 C -0.08472 -0.16046 -0.07969 -0.1096 -0.05972 -0.05503 C -0.05174 -0.0296 -0.0408 -0.00833 -0.02969 0.00624 C -0.0217 0.01965 -0.01267 0.03167 -0.00069 0.0437 C 0.03524 0.08231 0.07118 0.09965 0.08125 0.0837 C 0.09028 0.06751 0.07031 0.02358 0.0342 -0.01364 C 0.01927 -0.0296 0.0033 -0.04162 -0.00972 -0.04971 C -0.0217 -0.05781 -0.03681 -0.06451 -0.05278 -0.06867 C -0.0967 -0.08162 -0.13472 -0.07769 -0.13767 -0.05642 C -0.14167 -0.0363 -0.10868 -0.00971 -0.06476 0.0037 C -0.04479 0.00902 -0.02569 0.01156 -0.01076 0.0104 C 0.00226 0.0104 0.01632 0.00763 0.03125 0.0037 C 0.07517 -0.00971 0.10833 -0.03769 0.10417 -0.05781 C 0.10122 -0.07769 0.06319 -0.08301 0.01927 -0.07006 C -0.00174 -0.06312 -0.02083 -0.05364 -0.03368 -0.04301 C -0.04479 -0.03515 -0.05573 -0.02567 -0.06771 -0.01364 C -0.10278 0.02497 -0.12378 0.06751 -0.11372 0.0837 C -0.10469 0.09965 -0.06771 0.08231 -0.03281 0.04462 C -0.0158 0.02636 -0.00174 0.00763 0.00625 -0.00971 Z">
                                      <p:cBhvr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49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49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49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ear m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ar mask was also worn at ceremonie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ra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 and 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5180040" y="1295280"/>
            <a:ext cx="3624120" cy="480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9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tra info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he mask are between one foot and 10 fe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hey can get </a:t>
            </a:r>
            <a:r>
              <a:rPr b="1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REALLY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 heavy at times. They are can get really big ,to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-762120" y="19051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nd special thanks to you for watching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Alexandra and Alex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0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1:59:22Z</dcterms:created>
  <dc:creator>Administrator</dc:creator>
  <dc:description/>
  <dc:language>en-US</dc:language>
  <cp:lastModifiedBy>Denise</cp:lastModifiedBy>
  <dcterms:modified xsi:type="dcterms:W3CDTF">2007-12-04T04:20:04Z</dcterms:modified>
  <cp:revision>10</cp:revision>
  <dc:subject/>
  <dc:title>Slide 1</dc:title>
</cp:coreProperties>
</file>